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10.pct" ContentType="image/x-pict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3172-30AC-4102-A442-BF6366771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6207-FE69-465A-8AC4-3736D657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B490-E5F0-4BD3-AFCD-5B33F3EAC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66D1-88F8-46DE-AA24-59BF64C2A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 shh mutants have some but not all characteristics of holoprosencephaly.  Oep mutants do.  Now know that Nodal is upstream regulator of Shh.  Oep is cofactor required for Nodal signaling and a target for therapeutic treatment of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94A-F42C-4AE2-B249-6FCA3492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0B3-74EB-47B7-AD61-78832B1A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093-33CA-49C0-A082-E07C5A5C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45E-D7AE-4D95-ADA0-7FB99DB4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07F-BBC1-42E0-BF99-4ECD85F0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E0A-885F-4B89-8562-3CDCBC89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947-8EC7-4128-96D6-A9E033F7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220-5544-4AA5-8DE9-6AF423BE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06E-64CF-4140-A12B-E7C9C9CD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DC4-DED5-44E7-A4E4-2C8C6EED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A6C-4A1B-4F76-AB40-40F5D3E3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4EF-F649-4E4B-898C-940B5FBF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BF90-29D3-4319-A77B-243B855AB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Linking Anim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dels to Human Dis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0280" y="617220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936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5493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5480" y="3079800"/>
            <a:ext cx="4039560" cy="320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79800"/>
            <a:ext cx="3098880" cy="3183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7080" y="39006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908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3360" y="31687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aracter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8120"/>
            <a:ext cx="8305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or disease)  =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holo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0240" y="2476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1680" y="247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26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ep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044720"/>
          <a:ext cx="8001000" cy="588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4720"/>
                    <a:ext cx="8001000" cy="588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1397160"/>
          <a:ext cx="8382240" cy="360972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0,3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assigned human ortholo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8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m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FIN mutant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Corresponding huma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Drosophil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homologs of these 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6920" y="976320"/>
            <a:ext cx="77702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urier New"/>
                <a:ea typeface="ＭＳ Ｐゴシック"/>
              </a:rPr>
              <a:t>PATO developmen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est curation of zebrafish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nitial curation of phen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200 zebrafish mutations(Tübingen, 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orpholino phenotypes (Univ. of Minnes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400 Medaka mutations (Kyo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ffff"/>
              </a:buClr>
              <a:buFont typeface="Couri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CToL - taxonomy &amp; phyloge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BO-discuss email list for discu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54080"/>
            <a:ext cx="6324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elissa Haendel -anatomy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g Howe -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k Segerdell - 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ierra Taylor - 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295280" y="5410080"/>
            <a:ext cx="678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niversity of Oregon, Eugene, Ore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1480" y="99072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5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1-18T02:00:04Z</cp:lastPrinted>
  <dcterms:modified xsi:type="dcterms:W3CDTF">2005-11-19T00:33:27Z</dcterms:modified>
  <cp:revision>88</cp:revision>
  <dc:subject/>
  <dc:title>Ontologies for Gene Expression and Phenotypes</dc:title>
</cp:coreProperties>
</file>